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7C3-37A5-47C6-9A45-BB89735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4D4-A8BC-4576-B9C0-1793B257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052-D70B-4B1D-A53B-76BCBEAB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9AA-7D47-4778-8455-6D872154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DD34-0F41-4E9A-B2E9-AB25E932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1E36-5F2B-42B4-9B99-1642DA97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8F6D-22BF-4524-8D67-0E8FE8C7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0BC7-1A22-4A2F-AB3A-F0FE07C7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D0D-2213-4E1F-8B81-1B85CD7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3557-09D1-4A78-9F16-53FC20A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7B8A-2CFB-40D2-B339-626E0B2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634-1D24-41CD-9C32-7C6CD7F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7A1F-5AD2-45E1-90D1-72F9BC53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B50-8D84-4EA1-8A27-8363FEFA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B4B-9C0D-49C4-892C-13EF163E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39A2-EBF0-428E-9E72-2C7F4A08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A300-ECB6-4A25-A1C8-C810FDBC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58D-F8C1-41B8-B543-89F3DB6E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239-70D8-4394-989D-8F1C9ADD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047-2558-45FC-9CA6-F5189FC8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CB4-E0F6-4C72-B982-841FA656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B68-D503-4BB7-BBB7-17F83755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71B-81A1-44C0-A30E-9C697593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88F-A355-42D1-9A35-D1D659B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C534-2856-4486-8390-FB0E17D1C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28A-9BC4-43BD-82D8-F6C0DB250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Chapter 1 Review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tember 7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Chapter 1 Review Objective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nd subtracting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Operations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synonyms f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, and, plus, increased by,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, minus, less than, decrea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,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, quo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Write an equation…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more than x increased by two time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of 3 and x divided by the difference of 4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Evaluating Algebraic Expression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 each variable when the given number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necessary mathematical operations, using the order of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Evaluate…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= 2, b=3, c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)/(b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Handwriting"/>
              </a:rPr>
              <a:t>Adding and subtracting algebraic expressions</a:t>
            </a:r>
            <a:endParaRPr b="1" lang="en-US" sz="40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te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, the product of a number and variable, or a variable; it may be raised to a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like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that contain exactly the same variable, raised to the same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combine like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the numerical coefficient, then attach the common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Handwriting"/>
              </a:rPr>
              <a:t>Sets</a:t>
            </a:r>
            <a:endParaRPr b="1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is a collection of elements classified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are the objects in 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roster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{element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et builder no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| x&gt;3} or {x|x&lt;4} or {x|x=1,2,4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0:35:50Z</dcterms:created>
  <dc:creator>nuhs</dc:creator>
  <dc:description/>
  <dc:language>en-US</dc:language>
  <cp:lastModifiedBy>nuhs</cp:lastModifiedBy>
  <dcterms:modified xsi:type="dcterms:W3CDTF">2007-09-07T20:08:11Z</dcterms:modified>
  <cp:revision>12</cp:revision>
  <dc:subject/>
  <dc:title>Chapter 1 Review</dc:title>
</cp:coreProperties>
</file>